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68F-DF58-4475-BB13-8E251BFA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121F-4A5B-4D6A-A281-22DE8A55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735-2702-46CA-A1C1-CAEC01C8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945-0087-4025-9558-29C90CF9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67B-9292-4F7C-B74B-7B2D995A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7672-90E8-41DF-B5D2-40E66E94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E1CA-9D9D-4C7D-99B6-19735CF3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FBD-2B79-4B4E-A6E6-B9D3C53A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BE3-43C3-4C20-96C8-FFBE6795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D5C-CC13-4F65-927F-264FA38B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688-C125-43AB-8BAD-C7BED11A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A49-E148-42F8-B21A-D7DE54F2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632F-DBF3-4AB3-A661-64A6824F18F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21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0000"/>
                </a:solidFill>
                <a:latin typeface="Curlz MT"/>
              </a:rPr>
              <a:t>L’inchiostro freddolos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egnaposto contenuto 2" descr=""/>
          <p:cNvPicPr/>
          <p:nvPr/>
        </p:nvPicPr>
        <p:blipFill>
          <a:blip r:embed="rId1"/>
          <a:stretch/>
        </p:blipFill>
        <p:spPr>
          <a:xfrm>
            <a:off x="268200" y="554040"/>
            <a:ext cx="87361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13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egnaposto contenuto 2" descr=""/>
          <p:cNvPicPr/>
          <p:nvPr/>
        </p:nvPicPr>
        <p:blipFill>
          <a:blip r:embed="rId1"/>
          <a:stretch/>
        </p:blipFill>
        <p:spPr>
          <a:xfrm>
            <a:off x="390600" y="438120"/>
            <a:ext cx="836280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egnaposto contenuto 2" descr=""/>
          <p:cNvPicPr/>
          <p:nvPr/>
        </p:nvPicPr>
        <p:blipFill>
          <a:blip r:embed="rId1"/>
          <a:stretch/>
        </p:blipFill>
        <p:spPr>
          <a:xfrm>
            <a:off x="450720" y="652320"/>
            <a:ext cx="836928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Jokerman"/>
              </a:rPr>
              <a:t>Riempiamo i due bicchieri, uno di acqua calda e uno di acqua fredd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7030a0"/>
                </a:solidFill>
                <a:latin typeface="Jokerman"/>
              </a:rPr>
              <a:t>Facciamo cadere dell’inchiostro nei bicchieri, e osserviamo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00000"/>
                </a:solidFill>
                <a:latin typeface="Jokerman"/>
              </a:rPr>
              <a:t>COSA SUCCED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19">
                                  <p:stCondLst>
                                    <p:cond delay="1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1" dur="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  <p:animClr clrSpc="rgb">
                                      <p:cBhvr>
                                        <p:cTn id="22" dur="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  <p:set>
                                      <p:cBhvr>
                                        <p:cTn id="23" dur="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19">
                                  <p:stCondLst>
                                    <p:cond delay="1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" dur="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6" dur="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" dur="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19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9" dur="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30" dur="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31" dur="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373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Jokerman"/>
              </a:rPr>
              <a:t>Nel bicchiere d’acqua calda, l’inchiostro in poco tempo si mischia con l’acqu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2060"/>
                </a:solidFill>
                <a:latin typeface="Jokerman"/>
              </a:rPr>
              <a:t> </a:t>
            </a:r>
            <a:r>
              <a:rPr b="0" lang="it-IT" sz="3600" spc="-1" strike="noStrike">
                <a:solidFill>
                  <a:srgbClr val="002060"/>
                </a:solidFill>
                <a:latin typeface="Jokerman"/>
              </a:rPr>
              <a:t>Nel bicchiere d’acqua fredda. L’inchiostro scende lentamente e non si mischia (e fa anche dei bei disegni!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Joker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Jokerman"/>
              </a:rPr>
              <a:t>Ma perché succede così?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t1.gstatic.com/images?q=tbn:ANd9GcTqG-f_BnNU6u5TCnqtdAV4rvONXpNZGkGnpVBLfLoXRFdIwK1cng"/>
          <p:cNvPicPr/>
          <p:nvPr/>
        </p:nvPicPr>
        <p:blipFill>
          <a:blip r:embed="rId1"/>
          <a:stretch/>
        </p:blipFill>
        <p:spPr>
          <a:xfrm>
            <a:off x="6227640" y="4005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Jokerman"/>
              </a:rPr>
              <a:t>Gli atomi di ogni sostanza si muovono in continuazione. La grandezza di questo movimento è dato dal calore della sostanza</a:t>
            </a:r>
            <a:r>
              <a:rPr b="0" lang="it-IT" sz="3600" spc="-1" strike="noStrike">
                <a:solidFill>
                  <a:srgbClr val="000000"/>
                </a:solidFill>
                <a:latin typeface="Joker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Jokerman"/>
              </a:rPr>
              <a:t>Riscaldando la sostanza, gli atomi si agitano, e si muovono di pi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2060"/>
                </a:solidFill>
                <a:latin typeface="Jokerman"/>
              </a:rPr>
              <a:t>Raffreddando la sostanza, il movimento diminuis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Jokerman"/>
              </a:rPr>
              <a:t>Ecco perché l’inchiostro si amalgama con l’acqua </a:t>
            </a:r>
            <a:r>
              <a:rPr b="0" lang="it-IT" sz="5400" spc="-1" strike="noStrike">
                <a:solidFill>
                  <a:srgbClr val="ff0000"/>
                </a:solidFill>
                <a:latin typeface="Jokerman"/>
              </a:rPr>
              <a:t>calda</a:t>
            </a:r>
            <a:r>
              <a:rPr b="0" lang="it-IT" sz="5400" spc="-1" strike="noStrike">
                <a:solidFill>
                  <a:srgbClr val="000000"/>
                </a:solidFill>
                <a:latin typeface="Jokerman"/>
              </a:rPr>
              <a:t> e non con quella </a:t>
            </a:r>
            <a:r>
              <a:rPr b="0" lang="it-IT" sz="5400" spc="-1" strike="noStrike">
                <a:solidFill>
                  <a:srgbClr val="002060"/>
                </a:solidFill>
                <a:latin typeface="Jokerman"/>
              </a:rPr>
              <a:t>fredda</a:t>
            </a:r>
            <a:r>
              <a:rPr b="0" lang="it-IT" sz="5400" spc="-1" strike="noStrike">
                <a:solidFill>
                  <a:srgbClr val="000000"/>
                </a:solidFill>
                <a:latin typeface="Jokerman"/>
              </a:rPr>
              <a:t>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t3.gstatic.com/images?q=tbn:ANd9GcTLPvqRwEWACh4jJtZ1Ks7Cir6RktUVyU15KxOmRPMsu30uAv6IeQ"/>
          <p:cNvPicPr/>
          <p:nvPr/>
        </p:nvPicPr>
        <p:blipFill>
          <a:blip r:embed="rId1"/>
          <a:stretch/>
        </p:blipFill>
        <p:spPr>
          <a:xfrm>
            <a:off x="6875640" y="4076640"/>
            <a:ext cx="187308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-360"/>
            <a:ext cx="6696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b40000"/>
                </a:solidFill>
                <a:latin typeface="Comic Sans MS"/>
              </a:rPr>
              <a:t>Le molecole e gli atomi che compongono la materia sono in continuo movimento. Questo movimento è detto “agitazione termica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b40000"/>
                </a:solidFill>
                <a:latin typeface="Comic Sans MS"/>
              </a:rPr>
              <a:t>La temperatura indica lo stato di agitazione term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ttp://t3.gstatic.com/images?q=tbn:ANd9GcSnDWQaOFLPyxXtCwOHrGhD2r1YOSP4gBpKf5LXItU7ehwzFrN7"/>
          <p:cNvPicPr/>
          <p:nvPr/>
        </p:nvPicPr>
        <p:blipFill>
          <a:blip r:embed="rId2"/>
          <a:stretch/>
        </p:blipFill>
        <p:spPr>
          <a:xfrm>
            <a:off x="6794640" y="0"/>
            <a:ext cx="2349360" cy="2349360"/>
          </a:xfrm>
          <a:prstGeom prst="rect">
            <a:avLst/>
          </a:prstGeom>
          <a:ln w="0">
            <a:noFill/>
          </a:ln>
        </p:spPr>
      </p:pic>
      <p:sp>
        <p:nvSpPr>
          <p:cNvPr id="53" name="Rettangolo 3"/>
          <p:cNvSpPr/>
          <p:nvPr/>
        </p:nvSpPr>
        <p:spPr>
          <a:xfrm>
            <a:off x="0" y="3645000"/>
            <a:ext cx="871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7375e"/>
                </a:solidFill>
                <a:latin typeface="Comic Sans MS"/>
              </a:rPr>
              <a:t>Qui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7375e"/>
                </a:solidFill>
                <a:latin typeface="Comic Sans MS"/>
              </a:rPr>
              <a:t>Agitazione Maggiore = Temperatura Maggi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ttp://t0.gstatic.com/images?q=tbn:ANd9GcSpqI-N5Qese_H1vkLpAtWqd-V4kvuDyPOkzhcGzIq-7-hpCR6lQw"/>
          <p:cNvPicPr/>
          <p:nvPr/>
        </p:nvPicPr>
        <p:blipFill>
          <a:blip r:embed="rId3"/>
          <a:stretch/>
        </p:blipFill>
        <p:spPr>
          <a:xfrm>
            <a:off x="4427640" y="465300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4:32:11Z</dcterms:created>
  <dc:creator>PASQUALE</dc:creator>
  <dc:description/>
  <dc:language>en-US</dc:language>
  <cp:lastModifiedBy>Laura Polenta</cp:lastModifiedBy>
  <dcterms:modified xsi:type="dcterms:W3CDTF">2011-05-13T16:35:59Z</dcterms:modified>
  <cp:revision>20</cp:revision>
  <dc:subject/>
  <dc:title>Facciamo Fisica!!</dc:title>
</cp:coreProperties>
</file>